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7DE-97AE-4104-B0C3-1DCA45EDF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oing into details here – can talk individually or people can read our working paper, but I don’t want to bore people with the math – it’s not the point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have synthetic PS data with known start times, but these 4 should be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at it’s clear what I mean by start time configu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of nConfigs rows and nProcessInstances columns.  Each row has an associated prob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ata with no noise – sum of individual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: second process starts 5 sec. after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D: second process starts 5 sec. after first.  D process starts 2-4 seconds after second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data with N(0,0.1) noise add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value data after conver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 it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tart time configuration possibilities consisting of combinations of the true start time and one tick late (for each proc in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s are clear, with effects of noise slightly distorting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(0,0.1) noise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and S start times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process starts 5 seconds after th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process begins 2-4 seconds after the second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shapes clear through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’s results with real data for on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ROIs averaged into supervox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st time I talked to the gro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 data as example (throughout talk) – can’t add overlapping decis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distributions must govern entire response (8 seconds) or we lose all sense of shape – S S S S sequence produces 4 observations from the same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Markov chains – one for P, S, D – 1 when the state is ‘on’, 0 for ‘off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history like the NIPS paper we read together (arrows forward to future observ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s between 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arrow adds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need to consider every possible sequence of 0s and 1s – e.g. we don’t want to allow 010101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asy intuitive way to encode a constraint (like a boxcar shape: 0001111111111000000000000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along with theme of group meetings (stop making silly assumptions and start using domain knowledge) – e.g. feature selection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mate goal is to bridge the gap between high level theoretical cognitive models and fMRI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model that is intuitive enough for cognitive scientists to encode background knowledge, and that is tractably learnable.  This is a step in that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fHMM.  Markov chains are replaced with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can influence various brain regions with their emission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can interact with each other – e.g. process A cannot begin until process B d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n’t been using the input/output/interaction params yet, but will be part of the general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some point could move to process-dependent HDRd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cess can be instantiated zero or more times over the interval of observed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e difference between a process and a process instance is cl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we’re using now for an emission distribution, but in general we could use anything – e.g. a gamma function with 3 para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B76-AD0B-47E3-BBB9-FC7E63FB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263-6871-40D7-A82B-EC44B0D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ACB-BEBD-4358-853E-2CEEDE1E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150-1D71-46DF-97D6-0843A5C5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CC0-3498-401A-B98A-97F89F39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E8F2-52A2-47FC-9D7C-E60EB9D5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957B-AD75-49CE-AC8E-372A1820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3A9D-FC3C-482C-BF08-BC4506AA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CDA5-F8D2-41A7-8D14-E2908058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777C-1587-42FB-A078-6103732A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F21-C236-4A19-AD21-E2960B45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0A6-A973-4EFB-BABC-8E437596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96E6-AF12-4865-B00E-1CBE1080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9D36-F949-4068-98F9-8BEA40E1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C4F0-BDF6-409B-B6A8-8AAF782C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FD15-E155-4DA2-AC13-5987DD98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9D6E-59B4-47BE-9674-20EEA38E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FCA-377C-4059-B058-27642B45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BDA-7DC4-40D2-991B-212465CA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6BE-F3E5-4B88-9156-D00120B4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287-F058-4B5D-8256-6D7E394D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2AA-A09F-4D60-B22F-DB4F7562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E30-052C-4CFD-A533-F0B6232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77E-5B1F-4351-8E5F-02E648C5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138E-4587-4EF7-995E-0205AF47FD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EE30-BCB1-4519-B427-BF0D7F791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Process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becca Hutchin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int work with Tom Mitch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-16-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HP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observed fMRI data, and unobserved start time configurations for the process in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-Maximization (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step: estimate a distribution on the start time configu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step: use gradient ascent to update the process weights based on the new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PS data with unknown start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PSD data with some known start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PS data with known start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PSD data with known start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hetic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-457200" y="2133720"/>
            <a:ext cx="6019920" cy="4519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419720" cy="3317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105520" y="3505320"/>
            <a:ext cx="4419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hetic PS data with unknown start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-914400" y="2057400"/>
            <a:ext cx="10744200" cy="2438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-914400" y="4495680"/>
            <a:ext cx="10744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ed we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800600" cy="3605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8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hetic PSD data with some known start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-533520" y="2057400"/>
            <a:ext cx="10515600" cy="2514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-533520" y="4495680"/>
            <a:ext cx="10515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ed We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895480" y="205740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13997" r="0" b="6704"/>
          <a:stretch/>
        </p:blipFill>
        <p:spPr>
          <a:xfrm>
            <a:off x="-990720" y="2057400"/>
            <a:ext cx="10820520" cy="4992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PS data with known start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029200"/>
            <a:ext cx="914400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019920" y="609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0481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pec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64008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c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4876920"/>
            <a:ext cx="16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t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4429080"/>
            <a:ext cx="2971800" cy="24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SSP data.  Known start times, R=20 (10 se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22 it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 learning rate .0001 (needed it low to assure increasing data likelih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P(Y|S) ~ 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7391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eproduce, use try-PSSP-7-13-04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43000" y="57150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ctu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6324480"/>
            <a:ext cx="1676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t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2895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pect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5715000"/>
            <a:ext cx="1524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172200"/>
            <a:ext cx="3581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uplicate using try-PSSP-7-13-04b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4419720"/>
            <a:ext cx="2133720" cy="24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SSP data.  Known start times, 3 processes    R=20 (10 se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20 it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rning rate .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P(Y|S) ~ 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lk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 for new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dden Process Model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ef description of learning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preliminary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for questions and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esting with re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 up/improve learning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e up to more start time configu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to other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y with Indra’s work on decon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 and Com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Markov Models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HMM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373356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verlapping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ov assumption caused time granularity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endCxn id="120" idx="2"/>
          </p:cNvCxnSpPr>
          <p:nvPr/>
        </p:nvCxnSpPr>
        <p:spPr>
          <a:xfrm>
            <a:off x="12189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2209680" y="24379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>
            <a:off x="3200400" y="24379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>
            <a:off x="4190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>
            <a:off x="5181480" y="24379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/>
          <p:nvPr/>
        </p:nvCxnSpPr>
        <p:spPr>
          <a:xfrm>
            <a:off x="6172200" y="24379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1587600" y="3124080"/>
            <a:ext cx="86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44560" y="3098880"/>
            <a:ext cx="72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7600" y="309888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0560" y="309888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4280" y="309888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0" idx="4"/>
            <a:endCxn id="127" idx="0"/>
          </p:cNvCxnSpPr>
          <p:nvPr/>
        </p:nvCxnSpPr>
        <p:spPr>
          <a:xfrm>
            <a:off x="1981080" y="2666880"/>
            <a:ext cx="374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>
            <a:off x="2971440" y="2666880"/>
            <a:ext cx="37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3962160" y="2666880"/>
            <a:ext cx="37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952880" y="2666880"/>
            <a:ext cx="37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>
            <a:off x="5943240" y="2666880"/>
            <a:ext cx="37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ial HM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extensions to this model help (can add state history, interaction between chains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up with a lot of unnecessary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7" idx="2"/>
          </p:cNvCxnSpPr>
          <p:nvPr/>
        </p:nvCxnSpPr>
        <p:spPr>
          <a:xfrm>
            <a:off x="13716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/>
          <p:nvPr/>
        </p:nvCxnSpPr>
        <p:spPr>
          <a:xfrm>
            <a:off x="23619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>
            <a:off x="335268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>
            <a:off x="43434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>
            <a:off x="53337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>
            <a:off x="632448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739880" y="4114800"/>
            <a:ext cx="86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96840" y="4089240"/>
            <a:ext cx="72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9880" y="408924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200" y="408924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6560" y="4089240"/>
            <a:ext cx="8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r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7" idx="4"/>
            <a:endCxn id="154" idx="0"/>
          </p:cNvCxnSpPr>
          <p:nvPr/>
        </p:nvCxnSpPr>
        <p:spPr>
          <a:xfrm>
            <a:off x="2133360" y="3657600"/>
            <a:ext cx="37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>
            <a:off x="3124080" y="3657240"/>
            <a:ext cx="37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4114440" y="3657240"/>
            <a:ext cx="37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>
            <a:off x="5105160" y="3657240"/>
            <a:ext cx="37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6095880" y="3657240"/>
            <a:ext cx="37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190512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endCxn id="172" idx="2"/>
          </p:cNvCxnSpPr>
          <p:nvPr/>
        </p:nvCxnSpPr>
        <p:spPr>
          <a:xfrm>
            <a:off x="137160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/>
          <p:nvPr/>
        </p:nvCxnSpPr>
        <p:spPr>
          <a:xfrm>
            <a:off x="2361960" y="2742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>
            <a:off x="335268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/>
          <p:nvPr/>
        </p:nvCxnSpPr>
        <p:spPr>
          <a:xfrm>
            <a:off x="434340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>
            <a:off x="5333760" y="2742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/>
          <p:nvPr/>
        </p:nvCxnSpPr>
        <p:spPr>
          <a:xfrm>
            <a:off x="632448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endCxn id="187" idx="2"/>
          </p:cNvCxnSpPr>
          <p:nvPr/>
        </p:nvCxnSpPr>
        <p:spPr>
          <a:xfrm>
            <a:off x="1371600" y="2057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>
            <a:off x="2361960" y="20570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3352680" y="2057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>
            <a:off x="4343400" y="2057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>
            <a:off x="5333760" y="20570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>
            <a:off x="6324480" y="2057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 flipH="1">
            <a:off x="2057400" y="2971800"/>
            <a:ext cx="76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1080" y="2286000"/>
            <a:ext cx="1526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7760" y="297180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71440" y="228600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038480" y="2971800"/>
            <a:ext cx="76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962160" y="228600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029200" y="2971800"/>
            <a:ext cx="76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876560" y="2286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19560" y="2971800"/>
            <a:ext cx="75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866920" y="2286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Process Models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HPM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rocesses instead of discret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 the Markov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ier to encode background knowled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wer parameters than earlier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PMs: Defi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of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/Output/Interaction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ission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uple of standard deviations: one for each of the V observed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-indepen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modynamic response du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-indepen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is talk, HDRduration =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Generativ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HP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t of M process insta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d data is modeled as a linear combination of the emission distributions of the relevant process in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ission distrib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+1 weights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re 0 &lt;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lt;= 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contribution of this process to voxel v at startTime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~ 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=1: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=0: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t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H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(i) is the process ID of instanc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20:11:47Z</dcterms:created>
  <dc:creator>School of Computer Science</dc:creator>
  <dc:description/>
  <dc:language>en-US</dc:language>
  <cp:lastModifiedBy>School of Computer Science</cp:lastModifiedBy>
  <dcterms:modified xsi:type="dcterms:W3CDTF">2004-07-16T14:44:45Z</dcterms:modified>
  <cp:revision>5</cp:revision>
  <dc:subject/>
  <dc:title>Hidden Process Models</dc:title>
</cp:coreProperties>
</file>